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8B7-4998-419F-8DE3-C10680B6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80B-26F4-4A01-B38B-7F4F2C4F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991-C336-4D0B-8DBD-80A22C1C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528-1F10-47FC-9A08-37370E5E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4F03-318A-412E-887D-C47C7129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1EE7-799F-4767-9FAC-B09362A8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3629-6193-453E-A382-C869124E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B46E-4166-4448-AD99-0656B5C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F583-F450-439F-AC5E-3DC9B239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C78-3987-497A-BA5F-66C3583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F94F-F429-48B7-95A2-3716E7F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74E-E218-49CA-8343-7B52AA6D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3747-027A-4C9E-81B1-46EB760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D96-27D6-48FA-9F0B-0733EAB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3483-5307-432A-B335-800A2C5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F79B-4008-4491-80C2-AF4D5E67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3F8-391A-4718-BBBA-CC7F9617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D7C-8213-4375-A5F7-6E57BE85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DD8-CEBF-41C9-B473-D9D35163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3B4-F692-4EC0-BBF9-617E39EC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939-2689-4E31-A454-01D98CC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73F-D24B-4BCA-8493-99AB323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7B3-1535-46C5-8F13-2253A34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E20-4CB0-4ED7-9E08-5A0D4AF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B14-3ABA-4562-B8F8-986C50B7D9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6F4-E40A-46C7-98B5-9C01971F65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Types of Computers &amp;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ainfra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31488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expensive computer capable of simultaneously processing data for hundreds or thousands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tore, manage, and process large amounts of data that need to be reliable, secure, and cen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oused in a closet sized cabi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erv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“serv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that has the purpose of supplying its  users with data; usually through the use of a LAN (local area netwo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41560" cy="3803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Handhel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a PDA (Personal Digital Assista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that fits into a pocket, runs on batteries, and is used while holding the unit in your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sed as an appointment book, address book, calculator, and note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ynchronized with a personal microcomputer as a b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8227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0957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ystem uni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hat holds the power supply, storage devices, and the circuit boards (including the motherboa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66860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PU (Central Processing Unit)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50288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rocessing in a computer takes place, often called the brain of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458800" cy="294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that gather information and transform that information it into a series of electronic signals for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Keybo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ngement of letters, numbers, and special function keys that act as the primary input device 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89872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us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put device that allows the user to manipulate objects on the screen by moving the device along the surface of a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9528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ound C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cuit board that gives the computer the ability to accept audio input, play sound files, and produce audio output through speakers or head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3056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that accepts input, processes data, stores data, and produces output, all according to a series of stored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electronic and mechanical devices that process the data; refers to the computer as well as peripheral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uter program that tells the computer how to perform particular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r more computers and other devices that are connected, for the purpose of sharing data an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expand the computer’s input, output and storag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d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vice that sends and receives data to and from computers over telephon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3371760"/>
            <a:ext cx="335268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ut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hat display, print, or transmit the results of processing from the computer’s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79920" y="1600200"/>
            <a:ext cx="2241360" cy="218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evice that forms an image by converting electrical signals from the computer into points of colored light on the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ensity of the grid used to display or print text and graphics; the greater the horizontal and vertical density, the higher the resolu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smallest unit in a graphic image; computer display devices use a matrix of pixels to display text and graphic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ppy or zip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Wr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299088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rin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 that produces text or graphical images on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189320" cy="334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peak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s that receive signals from the computer’s sound card to play music, narration, or sound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97036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urc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ever is put into a computer syst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ers to the symbols that represent facts, objects, or ide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results of the computer storing data as bits and bytes; the words, numbers, sounds, and graphic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sts of the processing results produced by a comput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nipulation of the data in many way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temporarily holds data waiting to be processed, stored, or outpu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holds data on a permanent basis when it is not immediately needed for processi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ypes of Comput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al computer; designed to meet the computer needs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ess to a wide variety of computing applications, such as word processing, photo editing, e-mail, and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14800" cy="3460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esktop 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crocomputer that fits on a desk and runs on power from an electrical wall ou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U can be housed in either a vertical or a horizont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eparate components (keyboard, mouse, etc.) that are each plugged in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aptop 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able, compact computer that can run on an electrical wall outlet or a battery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ponents (keyboard, mouse, etc.) are in one compact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ore expensive than a comparable desk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a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42900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orkstation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desktop computer designed for specialize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require a lot of processing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be an ordinary personal computer attached to a LAN (local area net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per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uter that was the fastest in the world at the time it was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would not be practical for other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ing c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ling weather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45:59Z</dcterms:created>
  <dc:creator>Michelle Guymon</dc:creator>
  <dc:description/>
  <dc:language>en-US</dc:language>
  <cp:lastModifiedBy>TMS</cp:lastModifiedBy>
  <dcterms:modified xsi:type="dcterms:W3CDTF">2004-11-03T19:14:55Z</dcterms:modified>
  <cp:revision>71</cp:revision>
  <dc:subject/>
  <dc:title>Types of Computers</dc:title>
</cp:coreProperties>
</file>